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544-4B30-4A68-94F7-E48ACC85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5B3-108B-47E8-A132-259CE83D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21B-67E5-4F54-BD77-2E79D78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729-BA78-4868-9C35-CB9BB0D4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956-43F2-49BC-8F7C-D111CE78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B77-4354-49EA-8CBE-2268200A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A80-C5A1-44A4-8258-9B12CE6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98A-AB87-4648-B01A-2601CFAE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300-B121-4E8A-89BF-50B696C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E34-91B6-4615-A425-0634059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6FA-8414-459A-BF78-6D22499E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C05-6855-46A1-9AAC-CB09553B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755-52B8-4595-B40D-EF5DFD12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file:///tmp/home/.config/libreoffice/4/user/gallery/~PP2578.WAV" TargetMode="External"/><Relationship Id="rId5" Type="http://schemas.microsoft.com/office/2007/relationships/media" Target="file:///tmp/home/.config/libreoffice/4/user/gallery/~PP2578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file:///tmp/home/.config/libreoffice/4/user/gallery/~PP1371.WAV" TargetMode="External"/><Relationship Id="rId3" Type="http://schemas.microsoft.com/office/2007/relationships/media" Target="file:///tmp/home/.config/libreoffice/4/user/gallery/~PP137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1243.WAV" TargetMode="External"/><Relationship Id="rId3" Type="http://schemas.microsoft.com/office/2007/relationships/media" Target="file:///tmp/home/.config/libreoffice/4/user/gallery/~PP1243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1116.WAV" TargetMode="External"/><Relationship Id="rId3" Type="http://schemas.microsoft.com/office/2007/relationships/media" Target="file:///tmp/home/.config/libreoffice/4/user/gallery/~PP1116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~PP161.WAV" TargetMode="External"/><Relationship Id="rId3" Type="http://schemas.microsoft.com/office/2007/relationships/media" Target="file:///tmp/home/.config/libreoffice/4/user/gallery/~PP16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~PP1174.WAV" TargetMode="External"/><Relationship Id="rId4" Type="http://schemas.microsoft.com/office/2007/relationships/media" Target="file:///tmp/home/.config/libreoffice/4/user/gallery/~PP1174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578.WAV" TargetMode="External"/><Relationship Id="rId4" Type="http://schemas.microsoft.com/office/2007/relationships/media" Target="file:///tmp/home/.config/libreoffice/4/user/gallery/~PP578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~PP2310.WAV" TargetMode="External"/><Relationship Id="rId3" Type="http://schemas.microsoft.com/office/2007/relationships/media" Target="file:///tmp/home/.config/libreoffice/4/user/gallery/~PP2310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746.WAV" TargetMode="External"/><Relationship Id="rId3" Type="http://schemas.microsoft.com/office/2007/relationships/media" Target="file:///tmp/home/.config/libreoffice/4/user/gallery/~PP1746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~PP1462.WAV" TargetMode="External"/><Relationship Id="rId3" Type="http://schemas.microsoft.com/office/2007/relationships/media" Target="file:///tmp/home/.config/libreoffice/4/user/gallery/~PP146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~PP1257.WAV" TargetMode="External"/><Relationship Id="rId4" Type="http://schemas.microsoft.com/office/2007/relationships/media" Target="file:///tmp/home/.config/libreoffice/4/user/gallery/~PP1257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file:///tmp/home/.config/libreoffice/4/user/gallery/~PP1911.WAV" TargetMode="External"/><Relationship Id="rId3" Type="http://schemas.microsoft.com/office/2007/relationships/media" Target="file:///tmp/home/.config/libreoffice/4/user/gallery/~PP191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~PP1815.WAV" TargetMode="External"/><Relationship Id="rId3" Type="http://schemas.microsoft.com/office/2007/relationships/media" Target="file:///tmp/home/.config/libreoffice/4/user/gallery/~PP1815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2594.WAV" TargetMode="External"/><Relationship Id="rId3" Type="http://schemas.microsoft.com/office/2007/relationships/media" Target="file:///tmp/home/.config/libreoffice/4/user/gallery/~PP259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file:///tmp/home/.config/libreoffice/4/user/gallery/~PP2154.WAV" TargetMode="External"/><Relationship Id="rId3" Type="http://schemas.microsoft.com/office/2007/relationships/media" Target="file:///tmp/home/.config/libreoffice/4/user/gallery/~PP215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dah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udia Ei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875200">
            <a:off x="5638680" y="45684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3279600" cy="178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7920" y="533520"/>
            <a:ext cx="115416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otograf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37846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ern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2676600"/>
            <a:ext cx="4610160" cy="288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Barber Park geblie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8280" y="27241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ko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259380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mir gef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ho war sehr g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74464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1917720" cy="340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aho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gut Kartoffel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Boise,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530440" cy="395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Kartoffeln F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672080" cy="296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55760" cy="306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kau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1898640" cy="212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2801880" cy="189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 Kartoffeln gele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2931840" cy="2423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n einen Pool geschwom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809880" cy="2481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ear Lake Hot Springs gese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809880" cy="25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reunde besu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733920" cy="27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7:07Z</dcterms:created>
  <dc:creator>CUSD220</dc:creator>
  <dc:description/>
  <dc:language>en-US</dc:language>
  <cp:lastModifiedBy>CUSD220</cp:lastModifiedBy>
  <dcterms:modified xsi:type="dcterms:W3CDTF">2011-11-15T18:30:02Z</dcterms:modified>
  <cp:revision>3</cp:revision>
  <dc:subject/>
  <dc:title>Ich war in Idaho!</dc:title>
</cp:coreProperties>
</file>